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17E9-A43F-488F-AE45-841D5BBDF8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7943-7976-42C4-AA9E-62BF6D3DD2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294E-8C2E-4754-8DAB-9C1AFFF4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0EAD-68C7-446C-8CD1-3FDED789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9209-3A34-44E3-8B5A-EDE11E25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3E7-1572-485D-B926-5B40DADB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852E-3393-41F4-BC6A-BDD3C2AB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6D13-F112-4BF1-9E89-23A2C749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50DD-EE50-415C-AC23-CD44CFEA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DE31-0CA5-4089-8621-3DF26C4B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7AD0-4147-49B3-9D6A-2F27D62B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C4B4-AC70-43D6-85F2-75B9C381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124B-1EA1-4834-95B6-FC04B383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A83-0628-42D7-A682-1C95861A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34A7-6741-46C3-B4EF-325E2983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C55C-DE9A-4F84-B0D2-4D1A99BB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8FD1-86D6-4548-9AD5-6C8062B6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4A6B-3AB5-44D8-85BE-DB0F52C9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DFFF-9CD5-4749-863F-1FFCDB13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3CF9-EACB-4543-AA7A-6E59F276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AB9-43FD-4C4D-AEBB-C43A53ED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DC99-B676-45DE-9513-664AD056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FCC-C743-470D-AA0A-5BF5C923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659-FE02-493C-BDE3-5F0F0474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365-6A24-4E7C-862C-97EB6F14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048-900C-489F-9BE9-2E1DC71E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55CD-F62E-420D-B946-3C4AB78AB59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933E-3992-457F-9748-3FE422A4C1A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Dad</cp:lastModifiedBy>
  <dcterms:modified xsi:type="dcterms:W3CDTF">2009-02-08T22:03:57Z</dcterms:modified>
  <cp:revision>2</cp:revision>
  <dc:subject/>
  <dc:title>Writing A Good Book Review</dc:title>
</cp:coreProperties>
</file>