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E0DD-3765-47E3-B090-03E3DF45B8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76AB-F737-41F0-833C-8774B35A70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6EA-AA47-4595-B12C-AAD70DC4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5E0-E7DC-4BA4-97A6-A43118A2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97D-D5E8-4880-9A31-E560EFAE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A8A-54D5-4EA4-98ED-80E560A9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A457-19E0-4B53-95B9-7630A537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A4C0-35EB-422A-8E59-E423473D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8616-9766-44AE-A59A-48B948A9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7034-CDCD-4455-B4B5-585F1F52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314D-705C-41F2-B688-89F73669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1FEB-B999-46EC-8CF0-4531B8FA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2EB3-2429-4B1B-BE85-B8D56F12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22F-E448-49BF-B57B-4CFAACDD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3549-7AEB-4EC7-9D2C-4ED0A466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B8F2-7F7A-4F07-AC95-75E9A8C3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B777-04D5-4D75-92FE-EB677140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9B07-2A8A-46F2-A594-597C46EE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1D4F-6309-4516-8CE5-FCADF8E5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B0F-4429-4B9C-AC03-1F503CEA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5F4-07D8-4F07-8265-EAC25BB9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A6E-BAB9-407C-9A2B-11A5F487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488-7018-4A55-86C0-A66D1C96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E26-4719-4736-9ED0-A31AA2FA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E47-C60C-47B8-ADE5-836092CB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3B2-A3E1-4CDF-9C29-4C3D4397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6B6E-279C-40CD-B25C-EB4314D7DBB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DB36-80E0-4820-A981-9F72C3085FA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Dad</cp:lastModifiedBy>
  <dcterms:modified xsi:type="dcterms:W3CDTF">2009-02-08T22:03:57Z</dcterms:modified>
  <cp:revision>2</cp:revision>
  <dc:subject/>
  <dc:title>Writing A Good Book Review</dc:title>
</cp:coreProperties>
</file>