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C798-1630-426D-8172-11142F996F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F292-AF0C-4AEA-B751-E81BCC06C0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4900-FF4E-45D3-B883-9A8A84863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D327-192A-48C3-A848-ADB87F8B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375B-1CFC-4CC7-AC84-D8F2319C1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B0F3-E77A-4825-9A39-67098F57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FF20-AB4E-4D25-B5A4-E6C25313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7285-84A5-4E71-A4A8-57F3D030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D424-013F-47E0-BEBE-8A53849D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C02A-6981-4866-9008-3292E2DE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BF6B-E82B-435A-9EDD-EA883866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B894-DC59-4DA4-901C-DF92E1E5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14C4-66E2-4A05-8E80-55DA6B90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9D4D-C73D-4F03-9A86-925E89DE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0452-A347-45B4-9CDD-2D703D90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6CD6-FD86-45D1-AAED-F5AE1218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7484-1E6A-40D3-B8EF-95534553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DE6E-7891-459C-B6C6-A5EFBAC13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7512-B4CA-436F-A060-B4346D1D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3522-4030-4F4E-AA90-3B630FFA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6225-DE2A-4EB0-9531-9A7938EB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F93F-EE9B-4678-8F3A-9F384221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C648-BF77-4793-8C6E-0C34F8A1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F464-305B-40C2-855E-2612B08E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5731-3BCF-4A4D-BABD-979725F5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D7DB-281B-4743-9DB5-034F9010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5CB7-8D86-4F92-A3F8-3024C088328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F273-3B80-4B08-BB06-F268C9EF4A43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riting A Good Book Revie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rite a Paragraph 3 &amp; 4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UTTING IT ALL TOGETH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ow you have a great report to be proud of that will count for a major part in your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 want this typed neatly in a readable font, size 14 by tomorrow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b5249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b0ae6a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b0ae6a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5b5249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at Is A Book Review 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written opinion of what you think of a certain book as well as an accompanying summar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 Good Book Review . . .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statement telling the genre and what types of people would enjoy reading this book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your personal opinions and thoughts about the book and relates the book to your personal lif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brief summary of what goes on in the book but not giving a way the final event ( to do this, you usually just say a question such as “Who will win the vigorous battle between ________ and ______?  Read the book to find out !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aves the reader in suspens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first paragraph follows the title and autho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, you will need to include the genre, and what type of people the book is geared towa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2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you want to include your personal opinions about the book and how parts relate to your personal lif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paragraph is strictly about you and your thoughts, and enjoyment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onight’s homework is to write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2 paragraphs of a book review on the book you will be using for this projec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t the end of this part of the unit you will put everything together for 1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r 3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is the longest of all of your paragraph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will give a descriptive yet brief summary of at least 9 sentences but no more that 15 sentenc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must go through phases 1 through 3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see next slide)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-PLANN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r your summary, you will need to design a phases plann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3809880"/>
            <a:ext cx="8382240" cy="2667240"/>
          </a:xfrm>
          <a:prstGeom prst="flowChar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3200400"/>
            <a:ext cx="3657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1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in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4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of your book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352680"/>
            <a:ext cx="3810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2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and the problems that occur during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part of the middle.  Talk about the major proble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5257800"/>
            <a:ext cx="3657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3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3nd half of the middle and the steps leading up to the soluti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525780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4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ou don’t talk about this phase in your paragraph 3 but you must still plan i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4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is your last required paragrap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alk about the following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’s purpo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wards Book Has Receive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dditional Info About The Book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lo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EMEMBER-WHAT EVR YOUR WRITE IN THE LAST PARAGRAPH IS WHAT MOST PEOPLE WILL COMMONLY REMEMBER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20:20:03Z</dcterms:created>
  <dc:creator>Ben Swanson</dc:creator>
  <dc:description/>
  <dc:language>en-US</dc:language>
  <cp:lastModifiedBy>Dad</cp:lastModifiedBy>
  <dcterms:modified xsi:type="dcterms:W3CDTF">2009-02-08T22:03:57Z</dcterms:modified>
  <cp:revision>2</cp:revision>
  <dc:subject/>
  <dc:title>Writing A Good Book Review</dc:title>
</cp:coreProperties>
</file>