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AC6B-03D6-41A5-8FA7-82F9C241B2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1EEE-0237-4B7C-AD0D-3DF7C4107C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FA1F-DECB-4D01-BD71-E0B02245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4C4C-B191-4C68-9E6C-D5B2972B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ECA8-D45E-469C-B067-2761D512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C87A-7E9D-4E67-8534-8427B60A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5FA4-A852-40E9-8693-4D0CC995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D4F2-5501-4B92-A946-E4407410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1DB9-FA46-483B-B926-A9DC7A03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A7C0-3CA8-44E1-BDDE-0C7A2A0C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8F87-8494-4E60-9652-0C6570BA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D977-D265-4BDA-B2D6-8536E737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08FA-B01B-4D09-AB49-77F672C5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D9E6-0B3C-42CE-A315-A7F5EA47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F74A-7E30-4C88-A0FC-C550B129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2FB6-E428-4FD0-BA65-A5C30EFD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DFFB-3A89-43F2-B358-8629E25F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D2F0-7C91-4FD7-9F7E-28B34512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B07F-7663-4294-92A5-2AB82AE0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7043-7E97-465B-93E8-820BD99C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740-F251-4C4B-9455-7BC81901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9C7-BC69-40E0-AE7B-59105B3D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9A9-77F3-4183-ADAF-02521A79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DCA6-56FD-401F-B098-177EBB6F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2460-54FB-481A-95C9-BC6AF3F7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8F03-B268-4B8A-94F0-C57DA1DA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F6A5-363C-40A8-A285-4120A884B71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8CF1-ED04-406C-93B5-43222206503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Dad</cp:lastModifiedBy>
  <dcterms:modified xsi:type="dcterms:W3CDTF">2009-02-08T22:03:57Z</dcterms:modified>
  <cp:revision>2</cp:revision>
  <dc:subject/>
  <dc:title>Writing A Good Book Review</dc:title>
</cp:coreProperties>
</file>