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46D1-97D0-4927-8D95-9D5DC96199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C459-8E6B-466C-9E5C-3222A21393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905-4CD5-47E9-B78D-1B249A70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D82-88A1-4229-867A-301F6854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373-34D8-47E0-A28B-A35200E1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7FC-3D0F-429B-876F-C446A08F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BA3E-4682-4C18-8622-97DBF349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9F64-0FAA-4257-8FEE-5A27510B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BFAC-C304-4981-8426-304A22E6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5D89-FEF6-4FA9-9F56-63EB55EC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FEA8-7E99-4857-805F-3D33C01B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E486-4587-4C1D-BD3D-8445C893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ED66-103B-48CD-8A4B-F22631FD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491-A370-4CB6-9D2D-23C63C3E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B422-241B-4173-913D-592E69D8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4FA2-FB26-499E-9D21-72AD2665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1315-2605-4A0E-8E88-A90F4D1F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F8D8-6F09-4446-B89C-CB70486F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D267-E90A-41BF-AE8F-FFB6FEDE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7DC-4914-4E06-9291-E809522F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3ED-156D-428D-A893-D2E9218A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9DD-F902-4C39-9E1E-05699A8F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C45-9F5E-4ADF-BA54-A9A19173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19C-737D-4CFD-B08D-64661B93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956-6294-404D-905A-C832DDCC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FDF-C0AF-4F7F-8D3D-6EDAB2AE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8C7F-1517-43E8-B65B-8044DACFB9F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3FBD-156A-418B-AD05-EA79B904D1D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Dad</cp:lastModifiedBy>
  <dcterms:modified xsi:type="dcterms:W3CDTF">2009-02-08T22:03:57Z</dcterms:modified>
  <cp:revision>2</cp:revision>
  <dc:subject/>
  <dc:title>Writing A Good Book Review</dc:title>
</cp:coreProperties>
</file>