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BE1E-169F-4722-B154-D32109F6FC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A2A2-DB96-4E81-A16F-044A1D6258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F02-1C1E-46BE-A736-38845641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ABC-1FF0-4C79-B5A4-C0949189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D30-9665-4515-9815-52F0C9E5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1B0-F4BE-4938-8E0B-FE03568F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A3D0-6CAE-4BEB-AF99-E542C510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86E0-F0C9-4F62-A37E-A0CD289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FA6B-E4BA-4CC9-A700-82E34D4D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3F92-7E62-4A66-AF8A-C6876EC8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CFC-7678-4904-90A3-44F2CDAC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EFED-5321-4295-9563-B452880E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B31B-273B-4B15-8441-45AE4DD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5DE-AD69-42D9-A9BC-1E6603E6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CF8F-556A-4093-B3B4-C4A5F581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DC6B-DD98-4FFB-A468-03E4204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9AA2-092C-46F1-80CA-1BE87DE6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965B-CFA6-4525-9F04-8705EE6A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8591-D3F3-446A-A0BF-B0B7A6C9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5C5-7A90-4E05-B103-054DA795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D6C-7EFA-4180-95ED-E233FB1B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8B7-22BD-4A3E-9DB9-C67B11C5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675-BEFF-4085-9EF5-BE44FB9D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7CA-83E7-4BC6-A5DD-30EC870F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519-72FE-45E8-9AA7-75111206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EFD-BB65-4FAB-9AC8-C6CE240A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CA92-E278-42E7-B08E-2B10E8EBF8D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5818-493F-4CFF-9321-59EC7B6017D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b0ae6a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Dad</cp:lastModifiedBy>
  <dcterms:modified xsi:type="dcterms:W3CDTF">2009-02-08T22:03:57Z</dcterms:modified>
  <cp:revision>2</cp:revision>
  <dc:subject/>
  <dc:title>Writing A Good Book Review</dc:title>
</cp:coreProperties>
</file>