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A3B31-662F-407F-9E24-C59D488CD68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F6A32-7E02-4196-8187-2F1A356B5E9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FD77B-513A-4EC1-AD16-2B616ECA1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48473-B65A-4A9A-9FE3-5643C9861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B844D-3FC7-4A7A-BB2F-600FC1E25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AD133-824A-4C41-B562-AB859F0B3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52E95-0D79-4E45-91A2-852E147B3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2EBD6-FE98-42FD-B41F-C9F70C4A6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7A080-EADA-4303-860C-8177B0BE1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D8D80-8971-493F-86BF-6CF5351AC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4586E-FD2B-408E-AB8A-238868B95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08330-5AA1-42DE-BF56-3E8085219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8EE48-4DA8-4708-AAD5-0727CD49F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33495-516E-4D58-B1D2-E0E728685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613E6-7F19-45BE-AF40-0F6D2CCD1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3FB02-1B4A-4932-8F2B-BF8C62191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CBBED-451A-419B-B0F6-C5EBB9A22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3C499-E93A-4032-AB5B-A70447A02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8572E-2DFC-4D6F-BD44-257479922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26C3F-42E6-4D02-BD01-85BEB378F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AFA98-2547-4E11-9322-DC6573028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422E0-36C0-4B87-9330-CE4A956C4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E631D-A995-40A6-BD15-6BA225FB0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97B2F-8F06-4036-ABC0-1431F2CE1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59243-F53B-4FBE-BC08-DA6DEF04C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51CD8-4BF0-4633-B2EB-A3752545F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B888D-9E1D-4253-AA06-BD889B922289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5EB19-C9E0-4AA3-B15C-D100878D7218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2" marL="914400" indent="227160" algn="ctr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3" marL="1371600" indent="112680" algn="ctr"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worldofteaching.com/" TargetMode="External"/><Relationship Id="rId2" Type="http://schemas.openxmlformats.org/officeDocument/2006/relationships/hyperlink" Target="http://www.worldofteaching.com/" TargetMode="Externa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Writing A Good Book Review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2038320" y="43513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HOMEWORK-DAY 2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Write a Paragraph 3 &amp; 4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PUTTING IT ALL TOGETHER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Now you have a great report to be proud of that will count for a major part in your grad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I want this typed neatly in a readable font, size 14 by tomorrow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684360" y="1052640"/>
            <a:ext cx="7920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b5249"/>
                </a:solidFill>
                <a:latin typeface="Arial"/>
                <a:ea typeface="Arial"/>
              </a:rPr>
              <a:t>This powerpoint was kindly donated to </a:t>
            </a:r>
            <a:r>
              <a:rPr b="0" lang="en-GB" sz="2400" spc="-1" strike="noStrike" u="sng">
                <a:solidFill>
                  <a:srgbClr val="b0ae6a"/>
                </a:solidFill>
                <a:uFillTx/>
                <a:latin typeface="Arial"/>
                <a:ea typeface="Arial"/>
                <a:hlinkClick r:id="rId1"/>
              </a:rPr>
              <a:t>www.worldofteaching.com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b0ae6a"/>
                </a:solidFill>
                <a:uFillTx/>
                <a:latin typeface="Arial"/>
                <a:ea typeface="Arial"/>
                <a:hlinkClick r:id="rId2"/>
              </a:rPr>
              <a:t>http://www.worldofteaching.com</a:t>
            </a:r>
            <a:r>
              <a:rPr b="0" lang="en-GB" sz="2400" spc="-1" strike="noStrike">
                <a:solidFill>
                  <a:srgbClr val="5b5249"/>
                </a:solidFill>
                <a:latin typeface="Arial"/>
                <a:ea typeface="Arial"/>
              </a:rPr>
              <a:t> is home to over a thousand powerpoints submitted by teachers. This is a completely free site and requires no registration. Please visit and I hope it will help in your teaching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What Is A Book Review ?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A written opinion of what you think of a certain book as well as an accompanying summary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A Good Book Review . . .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43160" indent="-44316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Gives a statement telling the genre and what types of people would enjoy reading this book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43160" indent="-44316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Gives your personal opinions and thoughts about the book and relates the book to your personal life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43160" indent="-44316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Gives a brief summary of what goes on in the book but not giving a way the final event ( to do this, you usually just say a question such as “Who will win the vigorous battle between ________ and ______?  Read the book to find out !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43160" indent="-44316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Leaves the reader in suspense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Paragraph 1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e first paragraph follows the title and author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In the 1</a:t>
            </a:r>
            <a:r>
              <a:rPr b="0" lang="en-US" sz="3200" spc="-1" strike="noStrike" baseline="30000">
                <a:solidFill>
                  <a:srgbClr val="5b5249"/>
                </a:solidFill>
                <a:latin typeface="Times New Roman"/>
              </a:rPr>
              <a:t>st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 paragraph, you will need to include the genre, and what type of people the book is geared toward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Paragraph 2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In the 2</a:t>
            </a:r>
            <a:r>
              <a:rPr b="0" lang="en-US" sz="3200" spc="-1" strike="noStrike" baseline="30000">
                <a:solidFill>
                  <a:srgbClr val="5b5249"/>
                </a:solidFill>
                <a:latin typeface="Times New Roman"/>
              </a:rPr>
              <a:t>nd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 paragraph you want to include your personal opinions about the book and how parts relate to your personal life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s paragraph is strictly about you and your thoughts, and enjoyment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HOMEWORK-DAY 1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onight’s homework is to write the 1</a:t>
            </a:r>
            <a:r>
              <a:rPr b="0" lang="en-US" sz="3200" spc="-1" strike="noStrike" baseline="30000">
                <a:solidFill>
                  <a:srgbClr val="5b5249"/>
                </a:solidFill>
                <a:latin typeface="Times New Roman"/>
              </a:rPr>
              <a:t>st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 2 paragraphs of a book review on the book you will be using for this project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At the end of this part of the unit you will put everything together for 1 grad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Paragraph 3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Your 3</a:t>
            </a:r>
            <a:r>
              <a:rPr b="0" lang="en-US" sz="3200" spc="-1" strike="noStrike" baseline="30000">
                <a:solidFill>
                  <a:srgbClr val="5b5249"/>
                </a:solidFill>
                <a:latin typeface="Times New Roman"/>
              </a:rPr>
              <a:t>rd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 paragraph is the longest of all of your paragraphs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You will give a descriptive yet brief summary of at least 9 sentences but no more that 15 sentences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You must go through phases 1 through 3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(see next slide)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Paragraph 3-PLANNER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r your summary, you will need to design a phases planner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09480" y="3809880"/>
            <a:ext cx="8382240" cy="2667240"/>
          </a:xfrm>
          <a:prstGeom prst="flowChartOr">
            <a:avLst/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62120" y="3200400"/>
            <a:ext cx="36576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Phase 1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Talk about the main events in the 1</a:t>
            </a:r>
            <a:r>
              <a:rPr b="0" lang="en-US" sz="1800" spc="-1" strike="noStrike" baseline="30000">
                <a:solidFill>
                  <a:srgbClr val="5b5249"/>
                </a:solidFill>
                <a:latin typeface="Times New Roman"/>
              </a:rPr>
              <a:t>st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 4</a:t>
            </a:r>
            <a:r>
              <a:rPr b="0" lang="en-US" sz="1800" spc="-1" strike="noStrike" baseline="30000">
                <a:solidFill>
                  <a:srgbClr val="5b5249"/>
                </a:solidFill>
                <a:latin typeface="Times New Roman"/>
              </a:rPr>
              <a:t>th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 of your book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352680"/>
            <a:ext cx="381024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Phase 2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Talk about the main events and the problems that occur during the 1</a:t>
            </a:r>
            <a:r>
              <a:rPr b="0" lang="en-US" sz="1800" spc="-1" strike="noStrike" baseline="30000">
                <a:solidFill>
                  <a:srgbClr val="5b5249"/>
                </a:solidFill>
                <a:latin typeface="Times New Roman"/>
              </a:rPr>
              <a:t>st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 part of the middle.  Talk about the major problem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5257800"/>
            <a:ext cx="36576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Phase 3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Talk about the 3nd half of the middle and the steps leading up to the solution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05520" y="5257800"/>
            <a:ext cx="373356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Phase 4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You don’t talk about this phase in your paragraph 3 but you must still plan it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Paragraph 4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s is your last required paragraph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alk about the following;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712880" indent="-228600">
              <a:lnSpc>
                <a:spcPct val="90000"/>
              </a:lnSpc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Author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3" marL="1712880" indent="-228600">
              <a:lnSpc>
                <a:spcPct val="90000"/>
              </a:lnSpc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Author’s purpose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3" marL="1712880" indent="-228600">
              <a:lnSpc>
                <a:spcPct val="90000"/>
              </a:lnSpc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Awards Book Has Received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3" marL="1712880" indent="-228600">
              <a:lnSpc>
                <a:spcPct val="90000"/>
              </a:lnSpc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Additional Info About The Book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3" marL="1712880" indent="-228600">
              <a:lnSpc>
                <a:spcPct val="90000"/>
              </a:lnSpc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Closing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3" marL="1712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3" marL="1712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REMEMBER-WHAT EVR YOUR WRITE IN THE LAST PARAGRAPH IS WHAT MOST PEOPLE WILL COMMONLY REMEMBER.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5T20:20:03Z</dcterms:created>
  <dc:creator>Ben Swanson</dc:creator>
  <dc:description/>
  <dc:language>en-US</dc:language>
  <cp:lastModifiedBy>Dad</cp:lastModifiedBy>
  <dcterms:modified xsi:type="dcterms:W3CDTF">2009-02-08T22:03:57Z</dcterms:modified>
  <cp:revision>2</cp:revision>
  <dc:subject/>
  <dc:title>Writing A Good Book Review</dc:title>
</cp:coreProperties>
</file>