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1F12-3BB8-43F6-9F8F-DF71B3F7F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B2FE-58A5-4EDD-A348-20D3E532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553C-B112-4DB9-B80F-D1E11A34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D265-D846-42CE-B677-EB4AE1977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8CF6-A90B-4370-B157-03779C9E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450A-D7B4-4A4F-9524-024C7489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3813-3E69-43AA-9CD1-C409B1AE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6558-0B00-4D99-B21A-916989DD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3738-2A50-478D-9298-A490DB90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AA4C-799C-47CE-A279-4680B536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AE7D-3E81-4D1B-A2A7-55BBAF71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C504-161F-406D-B47A-CA4EED30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7ABB-0C48-49B7-8F8A-AF61CB29A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20:40:02Z</dcterms:created>
  <dc:creator>pombredanne</dc:creator>
  <dc:description/>
  <dc:language>en-US</dc:language>
  <cp:lastModifiedBy>pombredanne</cp:lastModifiedBy>
  <dcterms:modified xsi:type="dcterms:W3CDTF">2015-03-22T20:40:26Z</dcterms:modified>
  <cp:revision>1</cp:revision>
  <dc:subject/>
  <dc:title>test</dc:title>
</cp:coreProperties>
</file>