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66F-C716-49B9-91B5-C92F0AD1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6E5A-3D13-41E4-BDBC-37BD3F3C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5C5-C40B-4756-B8FC-DEB527FC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06E-201D-4139-9F9D-7BEDD411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0C7-2C4C-4AB5-8324-1EC83008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5DC-D909-4B98-8D45-02928F95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7CD-7B0C-4FC1-8806-CAFCF50B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457-7C37-41CC-B48F-AFEA125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891-3C81-44AF-A5F6-580E16E6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E66-45C1-4CDD-8349-CEBC57C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8092-4314-42B0-B4FB-13A69233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FE99-EDFE-4AEC-BD51-E2985FB4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DE86-3618-441C-9DA9-F817E67A4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20:40:02Z</dcterms:created>
  <dc:creator>pombredanne</dc:creator>
  <dc:description/>
  <dc:language>en-US</dc:language>
  <cp:lastModifiedBy>pombredanne</cp:lastModifiedBy>
  <dcterms:modified xsi:type="dcterms:W3CDTF">2015-03-22T20:40:26Z</dcterms:modified>
  <cp:revision>1</cp:revision>
  <dc:subject/>
  <dc:title>test</dc:title>
</cp:coreProperties>
</file>